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F6CA-0E17-40DF-A861-6C1D83602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DFA4-3EC4-4D7C-A94C-044476D89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6F93-5104-4097-BAF5-D5032FA39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922E-0817-455E-8200-239B78420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5D1E-7D2F-4C96-99B3-E66718A9D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E1A9-A95B-4A32-B04B-E5E5A1627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2537-998E-405A-8B6A-952FB19ED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96BC-5609-4984-A389-F28F42426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C7A6-1340-496F-BFBC-EA92BF5C1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9F55-5CDB-4A1D-92B8-482CF7CB8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9DFB-B682-4A34-B51F-E082FDE45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13E2-6120-4A89-AEEF-000A4B9A9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8569-9F96-4CC8-BE8A-16FD85FA2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E0E7-ABA8-4522-926C-380CFE195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86DF-A383-426D-B4ED-357B3F7C7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C83E-89F3-4097-96DA-7D45AEAC0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E4F9-72DB-481C-8087-63A1AB4D8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2CC5-C8F9-4ACD-8548-81632D436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A6F6-7B59-49C0-9B85-97C5D42C8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B8A6-E1EC-438F-930E-532870729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2266-442B-4563-94E1-EDD01D362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C06D-48F8-4A0A-906F-EEA0024A0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3AD0-5CA5-4A13-AD68-6FC95AD5E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85CE-F7B7-49BE-B148-3CDB384DA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4574-9B3B-4CF2-87F8-1DF0C98AF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51B4-B362-4EC3-8809-EB19F3DB6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D8D4-A39C-4F7B-BC80-70EAC2B4D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7059-AEFD-41A3-9BCA-355587261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88FC-F890-40DD-9ACE-3ABB9E171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5517-4A20-4CC9-9F42-798FBCE5B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D8EC-4E46-40B1-AEB2-2F3F2580D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48A0-9731-4425-A434-57C065BC1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5119-B677-4ACE-AF5C-05C451BAC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3636-26EC-4DF5-862A-D37141D14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5BCF-2705-4A76-B8BA-229A0CE09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4EB5-30FB-4985-95E4-1317D45D0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1CA4-7D3A-4082-AC73-78703242A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E2D0-B34E-44B3-8DDF-1E5E52F03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7460-9AE9-49F7-81AB-E6C31C82A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0612-0B5A-43F9-A670-452CE1FF7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7D30-A4CD-45F6-8A66-FF5A4DCD5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2E65-F3C8-47D4-B296-05D1846C8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31AA-85F8-478F-8C18-E067CAFA0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8FFE-5A87-4ECD-B96F-C7EF7755D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8C6B-9225-4F56-8DB8-E8B9ACA73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E12E-4241-42E0-AE38-400CC1C54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570A-B304-465D-A9C4-476FDB22C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8F61-A76F-4E01-A014-5F3D8259F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A5F3-A7AA-428A-8325-EF51579D3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B9B7-018D-40F5-AB54-73B7015F3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F609-ED81-40D9-8A1C-2D7F49AEF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B83C-ADA6-4EB6-A602-E3E58E081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AA27-005A-4200-995B-C9546E082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8AB-5F9F-406E-A411-0502938B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B30-4CEB-41BA-B6BF-08875B09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381-104B-47CC-BB72-54D9AA3D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86C-AB70-4710-B912-3E3FCBDC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DB77-6D49-4843-9B76-56749AC6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D5B8-C458-4DF5-9B13-EB7F91A3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0A00-CEF3-465A-9879-7C617C22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477C-91E0-4A62-8C3B-9B9BD649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729C-46E9-407B-AF19-D198548C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3398-58E6-4547-9295-276EE810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35B8-8716-4422-BC65-C348457C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313-74AF-43FC-A003-C8FA4FDC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D977-C66C-4E35-A773-F249DCDD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424D-8BA0-446D-844A-62A49504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9084-C991-4B66-B015-50D6DE64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5327-80A4-4784-9EB3-DB3198E9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14F8-5C8A-4C3E-AC7D-BF1684A2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FFA-44B2-4F87-945F-C01DD18C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244-968D-479C-8B16-500A6A61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E82-561E-4B1C-8C5A-87634290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1E9-F8CF-461C-B266-05D61245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0AC-EC01-4ABC-BD98-A494A177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20E-32E3-429F-BD66-9527CB37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C6A-8164-46C5-A5A2-1014DBCC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5D51-5144-4F83-BA32-B64A0C199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987480" y="4095720"/>
            <a:ext cx="7095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mma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me the parts of the electromagnetic spectrum in order from longest wavelength to shorte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dio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cro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rared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sible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ltraviolet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mma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olor process uses the additive color technique to create different color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G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three primary colors of pigment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genta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y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primary colors are used to create an image on a TV scre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e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olor would be created if a store clerk mixes yellow and magenta pigments into white pain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ctromagnetic 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c 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Human E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b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happens when white light falls on a piece of blue cloth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lue light is reflected off and all other colors are absorb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 we call a translucent material with at least one curved surfac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lastic or glass triangle that separates white light into colors is called wh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tube of glass that uses total internal reflection to send signals of light is wh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ber op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iece of metal or plastic with many slits used to separate white light into color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ype of waves have the longest wavelength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ffraction gra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multiple mirrors or lenses to reflect or refract light is an …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tical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receptors that detect col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receptors that detect brightness of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art of the eye that bends ligh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t of the eye that changes light into signals for the br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dio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ti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ocess by which humans use two eyes to see dep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ereoscopic vis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do we find electrons with a  higher energy level within the ato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rther from the nucle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ating a substance until it glow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andesc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glow-in-the-dark process where phosphorus atoms slowly release light energ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luminesc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oes an atom emit l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ype of high energy wave can be used to see through skin and get medical images of the bod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its electron falls to a lower energy leve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es the human eye focus on objects of various distanc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ens changes sha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 we call the portion of the electromagnetic spectrum that we can se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sible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ch part of the electromagnetic spectrum has the highest energy wav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Julie Skaggs</cp:lastModifiedBy>
  <dcterms:modified xsi:type="dcterms:W3CDTF">2014-03-18T14:42:48Z</dcterms:modified>
  <cp:revision>30</cp:revision>
  <dc:subject>Jeopardy Template</dc:subject>
  <dc:title>POWERPOINT JEOPARDY</dc:title>
</cp:coreProperties>
</file>