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90F8-2E17-48F5-9896-84474C8F1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4BF1-64BA-4ED8-9B49-923666676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B8D5-39A8-46A5-A938-4462C339C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ACC7-0541-4FB4-BCFF-A15652946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132F-9DAF-4647-BFDA-85A1C93E0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80F-C0E3-4498-A676-DC2E49523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ACC9-FD0A-41C8-91CB-277BC99FF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A7BF-70FC-43FC-822A-5688BB5FD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B2ED-2496-4EA5-B3C8-5054FFCBE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280D-74D7-4D1D-9B57-921136182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2E07-E6B8-4D62-96FF-1CD4EBE29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35EC-2A35-4FC6-85B8-682D70D88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2F3A-7B6C-4DDC-B357-76E4F4808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7788-FA61-4A6C-866A-7855108A4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49C5-1E19-44F8-8142-D71403D1D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0E9-BD8E-44D8-BEF0-0416D4658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582-94D2-435E-B6D4-DC096D315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4AED-5C85-497D-8D15-DFE1D2A57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CAAF-29DF-4CA4-B13B-4ADD7A037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A37-4EF8-4C25-95DE-4F5D7DDBF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21A1-8DAB-4CBA-87B0-87C185760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1A05-E460-45AF-AE1D-CEBF5EAB0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DDC0-EDF3-400B-878A-914049B87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7B53-22AE-41F2-AE1F-A3B992806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A603-D57D-47C9-9964-58696B6E9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673-7D92-4C8B-BA32-2D222E624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9456-BBD6-4E23-9D1B-7A948560C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D35D-4DCD-478F-BB24-0AD1F9B8D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6D9A-FB55-44F4-A0C3-8A0646B49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6A39-4C56-4D15-9B18-BAAE54209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2957-D5EA-4BC9-AA7D-F904A0B39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1100-C4DB-4BBA-8C0A-C0D4694D3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89A6-24CF-45E4-98C3-2ACE0CD18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A405-2571-4B6A-9FEE-7CF02D007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236E-608A-42C0-9B14-1E0EF2BF1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4B6F-A942-477C-8610-BE9AD6EA7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F8C-7A4F-4056-85A0-3D943BA53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7B18-0DD6-4351-A5D2-EB37A3910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1DCA-4632-4D89-9A7B-C3DEF6AD5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AE5A-794A-4C83-B949-FBE57108A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D682-EF0C-49C9-B837-DD786E883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4B17-8A8F-4689-B7A3-239A58016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0D2C-CE37-4CFC-B0C9-824BB232E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5B3-497F-42E1-9791-3C777F3B9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AC0E-468B-48CE-A74D-61C671532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C0BE-EE69-49AD-8888-F152CA7ED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31EB-2619-4B49-93B9-5B1F81AAE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065F-E23F-488D-9C77-D8DB21C12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A75C-B78B-410D-B9A1-E2644FE27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E080-AFA8-4339-AA87-DD53D5AFB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93D-8F42-45BD-9FA3-EBF698223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709F-BF88-4C1D-8490-2FCC63690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E3F2-F2CB-4E1F-A948-C425F6E84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CF0-B21F-47B1-AA7F-F5B51F83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242-EE1A-41A9-BB91-4227A7FF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C4D-ACB3-45EA-9646-BCBAB37A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726-BABD-4FC6-AA42-D32E3653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3BF4-822B-4F43-AAA6-0B0D6F8F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90CF-2CEC-4F10-B914-6BA2A252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95B3-FD77-45FA-9DE9-B38E88F9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B1D0-B069-4BE8-B079-812EFA17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760E-C01F-4EB1-B4F7-B402B7C0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1AAD-D40E-4021-88B7-DD480E3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73ED-C4DF-4062-87F8-0F1B4E0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32D-9F45-4638-A67E-8ECF7023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22C6-68A5-4B11-B19D-324154B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CF01-4E43-4887-B231-5081AF7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8E77-8BA4-4EAE-8E43-BA48B67D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6E70-2C89-4681-9020-DAA0E304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5DE8-AB8A-4C86-B025-1BF795A6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904-2888-45AA-B6C1-31657269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A26-6782-4F10-A5DB-7D6CC839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E3D-9539-4B4F-8CAF-A314EF69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165-22EF-4A3F-8787-BA512038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DCD-203B-4396-8ED1-A6ECF8D0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BD2-47DA-4618-81A5-90672000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26B-155B-48D4-93ED-C508FC3D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CBCD-5068-4AC3-ADDE-56DCDC7CE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6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eopardyIcon5.png"/>
          <p:cNvPicPr/>
          <p:nvPr/>
        </p:nvPicPr>
        <p:blipFill>
          <a:blip r:embed="rId1"/>
          <a:stretch/>
        </p:blipFill>
        <p:spPr>
          <a:xfrm>
            <a:off x="0" y="171360"/>
            <a:ext cx="9280440" cy="386712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987480" y="4095720"/>
            <a:ext cx="7095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me the parts of the electromagnetic spectrum in order from longest wavelength to short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rared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ltraviolet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amma 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process uses the additive color technique to create different col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G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the three primary colors of pigment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enta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y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rimary colors are used to create an image on a TV scre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e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color would be created if a store clerk mixes yellow and magenta pigments into white pain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ctromagnetic 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c 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Human 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b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2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happens when white light falls on a piece of blue clo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2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lue light is reflected off and all other colors are absorb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a translucent material with at least one curved surfac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lastic or glass triangle that separates white light into colors is called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tube of glass that uses total internal reflection to send signals of light is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ber op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iece of metal or plastic with many slits used to separate white light into color i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waves have the longest wavelengt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raction gra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3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ing multiple mirrors or lenses to reflect or refract light is an …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3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tical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col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receptors that detect brightness of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art of the eye that bends ligh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 of the eye that changes light into signals for the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dio wa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ti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4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rocess by which humans use two eyes to see dep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4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reoscopic vis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do we find electrons with a  higher energy level within the ato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1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ther from the 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ting a substance until it glow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and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low-in-the-dark process where phosphorus atoms slowly release light ener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toluminesc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does an atom emit l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type of high energy wave can be used to see through skin and get medical images of the body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4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its electron falls to a lower energy lev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5 - 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es the human eye focus on objects of various distanc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5 – 5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ens changes sha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C:\Users\Robin\AppData\Local\Microsoft\Windows\Temporary Internet Files\Content.IE5\UKPIYV1G\MCj04421220000[1].png"/>
          <p:cNvPicPr/>
          <p:nvPr/>
        </p:nvPicPr>
        <p:blipFill>
          <a:blip r:embed="rId1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2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we call the portion of the electromagnetic spectrum that we can se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swer 1 – 30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ble l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Robin\AppData\Local\Microsoft\Windows\Temporary Internet Files\Content.IE5\UKPIYV1G\MCj04421220000[1]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29600" y="6138720"/>
            <a:ext cx="7239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1 - 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ich part of the electromagnetic spectrum has the highest energy wave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06:01Z</dcterms:created>
  <dc:creator>Educational Technology Network</dc:creator>
  <dc:description>www.edtechnetwork.com</dc:description>
  <cp:keywords>Jeopardy Powerpoint Template;Educational Technology</cp:keywords>
  <dc:language>en-US</dc:language>
  <cp:lastModifiedBy>Julie Skaggs</cp:lastModifiedBy>
  <dcterms:modified xsi:type="dcterms:W3CDTF">2014-03-18T14:42:48Z</dcterms:modified>
  <cp:revision>30</cp:revision>
  <dc:subject>Jeopardy Template</dc:subject>
  <dc:title>POWERPOINT JEOPARDY</dc:title>
</cp:coreProperties>
</file>