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5FF7-66F5-4196-8EEF-86CBD76A9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BA5A-A56C-49B6-B377-D099E6691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1424-7176-440C-B9C1-3E26182CA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C0B2-69A8-47FA-8783-FF389C96D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269F-8DA1-43DE-B6C9-90262CF0A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6EFF-1C9F-45A9-8FF5-2256312CA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7CCE-8140-4949-A3A9-B30B9A486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0EBA-5B04-4A69-9686-18CD02665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1E45-C4AB-4B2D-9076-3795718FA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D03F-DE54-4F43-B851-B2C743059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682B-5D20-4A02-9FA3-548F08E0F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EEB5-660C-427F-B8D9-E7C1AE8AB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0052-1B7C-47CA-B3B3-F2668C8F0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7A41-2DEC-4F38-93F2-5D12D3A73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05D-DE93-400A-92EA-81CB9F58B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DCF-BC92-4155-8C4B-6A76D0F6A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BE33-2C38-4D1D-947C-439E7B660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7FAE-EF3D-4B5D-AFB8-B6A6D8DC9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C643-7444-4CAF-A1CB-54E7EF2D1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BE7C-78E6-4E5E-A630-AB2CE940A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FE0E-4019-4AAB-A7D8-DA139248C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47B0-B559-40D1-95A4-376B52F8E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A5CC-5FC5-4279-A05F-54C1DEE5D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C381-597D-4C60-A078-5A35D4501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90A3-7863-4767-BCB7-D3D689B7C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A6AA-5EC9-41DD-BDF3-264E39E69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E4C5-0FA8-454D-A4D0-4DEBBD12D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32C7-3C45-4037-B95C-010009EAA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3137-94AF-47C2-980B-1EFE3CECC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169F-A0A0-4155-8CEF-1B0789D9E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019F-D425-4A7B-AE48-84200483D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FDF8-30A1-45D2-ADA5-8C88BAA0E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F8B-FA86-4F14-A094-C40EEBDCB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836C-8324-468D-8C43-C1AA4A80E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8783-D579-4E80-A386-C13D553B4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783-EC8A-4ECA-9AEA-D01B8EB7F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6325-EC76-4F33-97A8-EFC491505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133A-7E23-4D34-AB11-CC24E9051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6F35-986F-4181-93FF-D5711F2D1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5BE8-2EB7-4CED-8DF8-FBFB00337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EA0C-5AB8-40B6-ACF3-EAAFFDCB1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31A7-0CD2-4E63-A471-20AF32F7F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C487-8144-4B6F-BEE0-17B2C6C09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77C-6747-48CB-936C-3CF5FD1D8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4B84-C38B-4E92-9CA0-4FDA44772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5668-77DD-46F2-B3EC-3A33D08AC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DF34-2D65-4E16-8F08-F41D5CDFE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36AD-B232-47C8-BF52-17199384B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4674-FF3D-4243-994E-92D0A6A51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2ACA-B083-40AB-8D84-D8648A259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9AF-53CC-42B3-ABA0-A39744492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07DF-0217-40F8-B734-85E49C57F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9EC9-EAFF-449F-A265-91C622690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BC7-6CE3-4B34-90A6-579E1334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D90-AFDD-444D-8FA0-9BC4DF19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3A0-9D5B-489B-8163-AF29DA3E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60A-F1D3-4048-853E-4A00A198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B23B-011F-4A68-A249-AF1E8A7D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5C01-741C-4E85-8F6A-073093E5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8DA3-73A2-4F61-9268-EA99A7B6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EE7D-EDB2-47A5-BFB1-A51975D2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2756-D81F-4627-B512-DEF495D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CD94-21F2-43F0-87E9-C633F3EA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4989-6803-4630-BF5D-D43A290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F73-6FB0-4424-9621-079A4AE1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2879-7C40-4BC5-B1A0-1BA3DD8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FB9D-DDEC-4D38-88B0-50FB195B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A357-8858-44BC-938E-79BCBFE6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B763-13FC-49D1-8253-E62828FE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7F0E-D701-4B1D-8C92-4D8828B1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FAD-53CB-48B1-AC32-D5E6CD7F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552-C8E1-4C10-B970-80064A2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1E1-FB08-4B2E-99EB-855E20D2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0D8-BD8F-4A28-8962-5277ED2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A84-CB43-4AAD-A528-E1392D2C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CA6-8833-4CD6-A8FB-61ED05C3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02E-4756-41A1-9DA4-092FBE04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79C7-368D-4E90-9D35-58F129946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me the parts of the electromagnetic spectrum in order from longest wavelength to shor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rared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ltraviolet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process uses the additive color technique to create different col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G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hree primary colors of pigmen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enta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rimary colors are used to create an image on a TV scre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e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would be created if a store clerk mixes yellow and magenta pigments into white pai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ctromagnetic 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c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Human 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b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white light falls on a piece of blue clo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lue light is reflected off and all other colors are absorb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a translucent material with at least one curved surfa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lastic or glass triangle that separates white light into colors is called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tube of glass that uses total internal reflection to send signals of light is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ber op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iece of metal or plastic with many slits used to separate white light into color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waves have the longest waveleng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raction gra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multiple mirrors or lenses to reflect or refract light is an …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cal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col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brightness of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art of the eye that bends ligh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 of the eye that changes light into signals for the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humans use two eyes to see dep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reoscopic vi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 we find electrons with a  higher energy level within the a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ther from the 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ting a substance until it glo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and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low-in-the-dark process where phosphorus atoms slowly release light ener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lumin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oes an atom emit l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high energy wave can be used to see through skin and get medical images of the bod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ts electron falls to a lower energy lev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human eye focus on objects of various distanc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ens changes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the portion of the electromagnetic spectrum that we can se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part of the electromagnetic spectrum has the highest energy wav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Julie Skaggs</cp:lastModifiedBy>
  <dcterms:modified xsi:type="dcterms:W3CDTF">2014-03-18T14:42:48Z</dcterms:modified>
  <cp:revision>30</cp:revision>
  <dc:subject>Jeopardy Template</dc:subject>
  <dc:title>POWERPOINT JEOPARDY</dc:title>
</cp:coreProperties>
</file>