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FC2E-CB13-4B12-90A0-F2BF04419C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d by Educational Technology Network. www.edtechnetwork.com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D15D-B15D-4D68-B494-F9BBB470B3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A640-D992-4830-BDC5-12468F7D0B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DE8B-029B-4EC1-88E9-E1EBAF4ED4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5579-B6F0-4DBB-BB20-384763C1A2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959C-81DB-4043-9CB0-3145E01CA4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2F06-D725-43D0-BCBA-754C2F744C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0787-CC24-4B52-85A2-B214F01D01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FFE7-30C3-44F3-9BAA-6BE556E0CB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8D58-649B-4BD9-819B-DDAD56DD8C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F628-091A-4C81-A8AA-BA3CCAF490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CBC1-9B4E-4E4D-95B9-1E890CE186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1EB0-1D6E-4E9C-A05D-F34EFB2B18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0C5E-D1CE-4960-A17C-F7221C0789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B430-526D-4B9A-9890-21F63DAAA0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5ABC-57DB-4B4A-BF3F-205301D7A8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0C16-1D9E-475C-A009-84734508AB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1957-F2FB-492D-B80A-E7F803DA65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A23D-5DD1-47F0-8B26-808DD12943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D371-E7A0-491D-A7C8-A809C1B129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E95E-F32B-4951-9D48-AE8F17454C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3C29-7D16-4163-B5E7-CB5B0BEE52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834D-B9D5-46FA-BB42-F7DB8BA439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9AB6-79F3-4F4A-9BF3-885D8CDDB4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7A39-9549-4AFD-B831-C161A67132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8EF2-94C4-44E9-92BB-8D2C5C43D6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CFA2-49D5-43EC-BC78-037533165A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1327-BFAA-4DBE-8FF2-933B509702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6320-CC08-4D9B-A4CA-C923D7025F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88B7-8580-43A6-AD4F-5D87239BDC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D0A7-8AA8-4EF9-B81C-37C86A3C6F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6CC6-C324-4421-8DA0-33A1F237FF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5463-0505-4452-A990-8DFAAC87D2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6BB9-0003-4C87-B311-159B57CC64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5918-5B3B-4E50-9584-8631DEF135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08B1-D630-441F-A87B-ABA05F995C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CC1E-3B79-4E60-8DCF-E7DC127326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24DA-23D5-48FC-BFED-DFA1FB41CC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4985-0813-49F8-8D59-48FA4B8CFD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2EC2-E0AA-401F-B230-EBC6A4D382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F789-8885-43A1-8198-BB1B5DC4C3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A2D2-8AC3-418F-8FCD-CA0CFD3C76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46A4-8C7B-4770-ABCD-3B60D130A9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B455-D8C7-49C8-B6B5-A857D3C128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4089-2B87-4808-A452-36390E3142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6F31-8FE9-4EE6-B02E-70CC6A0876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D240-EF84-4D6F-BE2F-07BA1ED0D0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8B05-86E4-4938-B427-C0047E2EF4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A648F-13A0-40B7-8B95-DF88A8CF76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7219-B0B7-4172-8B31-F2EF50FE83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2C43-2253-432A-8C30-DD65268748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3D4A-5BDC-40B6-A0B9-981C876E10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9663-26F8-49EC-8F81-D35C452312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8754-250B-4E24-85B0-B9170EF00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3E65-5239-4128-8CA2-A337A1E2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A70A-9B5B-46C8-8D2C-03CB71F8D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B18E-8B4B-41FD-87D0-49804C144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F836-49C1-40D4-9099-DCAC4A84E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992E-5ECD-481A-90C2-AF9EB2E3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F68F-91F3-4FFE-BF96-44A50D45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2E7B-E175-47F6-B468-40FAE446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B9B0D-F85E-4A03-B0AD-4F635D2B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00C4-4144-4FBD-B4C7-BF6E504E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4131-CEEC-460C-964A-8B1032DF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CEB8-BD82-4AF0-9B56-79D4D8FF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A7D9A-CEED-408F-8B12-500DFC41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5C4E-7605-4F82-9075-777A6353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5233-C3FE-4F8F-8ABB-780A65AB1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F049-DCD6-4D06-B9F8-2DBBD4C26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06921-17FB-45E4-801B-0FD039A88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90ED-ED00-4B49-B061-25746E77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9DCD-9F70-4FEB-833E-7FB230FD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C387-7ACF-4B58-9AF9-3A1ABBA1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1F07-3F3C-4919-8F42-0A0E3897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F845-928E-4DD4-A725-D7C1CDE7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CEDB-5F15-42F9-9FBE-A08AF0D7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A51E-77D3-44FE-B3C6-2261E700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56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9761-2C7E-4214-A867-AE1BB6B77B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56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3.xml"/><Relationship Id="rId3" Type="http://schemas.openxmlformats.org/officeDocument/2006/relationships/slide" Target="slide23.xml"/><Relationship Id="rId4" Type="http://schemas.openxmlformats.org/officeDocument/2006/relationships/slide" Target="slide33.xml"/><Relationship Id="rId5" Type="http://schemas.openxmlformats.org/officeDocument/2006/relationships/slide" Target="slide43.xml"/><Relationship Id="rId6" Type="http://schemas.openxmlformats.org/officeDocument/2006/relationships/slide" Target="slide5.xml"/><Relationship Id="rId7" Type="http://schemas.openxmlformats.org/officeDocument/2006/relationships/slide" Target="slide15.xml"/><Relationship Id="rId8" Type="http://schemas.openxmlformats.org/officeDocument/2006/relationships/slide" Target="slide25.xml"/><Relationship Id="rId9" Type="http://schemas.openxmlformats.org/officeDocument/2006/relationships/slide" Target="slide35.xml"/><Relationship Id="rId10" Type="http://schemas.openxmlformats.org/officeDocument/2006/relationships/slide" Target="slide45.xml"/><Relationship Id="rId11" Type="http://schemas.openxmlformats.org/officeDocument/2006/relationships/slide" Target="slide7.xml"/><Relationship Id="rId12" Type="http://schemas.openxmlformats.org/officeDocument/2006/relationships/slide" Target="slide17.xml"/><Relationship Id="rId13" Type="http://schemas.openxmlformats.org/officeDocument/2006/relationships/slide" Target="slide27.xml"/><Relationship Id="rId14" Type="http://schemas.openxmlformats.org/officeDocument/2006/relationships/slide" Target="slide37.xml"/><Relationship Id="rId15" Type="http://schemas.openxmlformats.org/officeDocument/2006/relationships/slide" Target="slide47.xml"/><Relationship Id="rId16" Type="http://schemas.openxmlformats.org/officeDocument/2006/relationships/slide" Target="slide9.xml"/><Relationship Id="rId17" Type="http://schemas.openxmlformats.org/officeDocument/2006/relationships/slide" Target="slide19.xml"/><Relationship Id="rId18" Type="http://schemas.openxmlformats.org/officeDocument/2006/relationships/slide" Target="slide29.xml"/><Relationship Id="rId19" Type="http://schemas.openxmlformats.org/officeDocument/2006/relationships/slide" Target="slide39.xml"/><Relationship Id="rId20" Type="http://schemas.openxmlformats.org/officeDocument/2006/relationships/slide" Target="slide49.xml"/><Relationship Id="rId21" Type="http://schemas.openxmlformats.org/officeDocument/2006/relationships/slide" Target="slide11.xml"/><Relationship Id="rId22" Type="http://schemas.openxmlformats.org/officeDocument/2006/relationships/slide" Target="slide21.xml"/><Relationship Id="rId23" Type="http://schemas.openxmlformats.org/officeDocument/2006/relationships/slide" Target="slide31.xml"/><Relationship Id="rId24" Type="http://schemas.openxmlformats.org/officeDocument/2006/relationships/slide" Target="slide41.xml"/><Relationship Id="rId25" Type="http://schemas.openxmlformats.org/officeDocument/2006/relationships/slide" Target="slide51.xm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JeopardyIcon5.png"/>
          <p:cNvPicPr/>
          <p:nvPr/>
        </p:nvPicPr>
        <p:blipFill>
          <a:blip r:embed="rId1"/>
          <a:stretch/>
        </p:blipFill>
        <p:spPr>
          <a:xfrm>
            <a:off x="0" y="171360"/>
            <a:ext cx="9280440" cy="3867120"/>
          </a:xfrm>
          <a:prstGeom prst="rect">
            <a:avLst/>
          </a:prstGeom>
          <a:ln w="0">
            <a:noFill/>
          </a:ln>
        </p:spPr>
      </p:pic>
      <p:pic>
        <p:nvPicPr>
          <p:cNvPr id="90" name="TextBox 4" descr=""/>
          <p:cNvPicPr/>
          <p:nvPr/>
        </p:nvPicPr>
        <p:blipFill>
          <a:blip r:embed="rId2"/>
          <a:stretch/>
        </p:blipFill>
        <p:spPr>
          <a:xfrm>
            <a:off x="987480" y="4095720"/>
            <a:ext cx="70959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amma ray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ame the parts of the electromagnetic spectrum in order from longest wavelength to shortes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dio wa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icrowa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frared wa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isible ligh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ltraviolet ligh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X ray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amma ray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color process uses the additive color technique to create different color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GB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are the three primary colors of pigment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genta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ya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ellow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primary colors are used to create an image on a TV screen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e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l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color would be created if a store clerk mixes yellow and magenta pigments into white pain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lectromagnetic Spectr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l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tic To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e Human Ey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ab B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3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4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5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6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7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8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9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0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1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2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4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5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6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7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8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9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0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1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2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3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4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5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happens when white light falls on a piece of blue cloth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blue light is reflected off and all other colors are absorbe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do we call a translucent material with at least one curved surfac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plastic or glass triangle that separates white light into colors is called wha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is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tube of glass that uses total internal reflection to send signals of light is wha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ber optic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piece of metal or plastic with many slits used to separate white light into color i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type of waves have the longest wavelength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ffraction grat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sing multiple mirrors or lenses to reflect or refract light is an …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ptical syste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hotoreceptors that detect col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hotoreceptors that detect brightness of ligh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o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part of the eye that bends light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art of the eye that changes light into signals for the brai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dio wa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2" descr="C:\Users\Robin\AppData\Local\Microsoft\Windows\Temporary Internet Files\Content.IE5\UKPIYV1G\MCj04421220000[1]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tin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process by which humans use two eyes to see dept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ereoscopic vis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5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re do we find electrons with a  higher energy level within the atom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5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arther from the nucle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5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ating a substance until it glow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5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andesce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5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glow-in-the-dark process where phosphorus atoms slowly release light energ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5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hotoluminesce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5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does an atom emit ligh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type of high energy wave can be used to see through skin and get medical images of the body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5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its electron falls to a lower energy level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5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does the human eye focus on objects of various distance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5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lens changes shap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X-ray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Picture 2" descr="C:\Users\Robin\AppData\Local\Microsoft\Windows\Temporary Internet Files\Content.IE5\UKPIYV1G\MCj04421220000[1]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do we call the portion of the electromagnetic spectrum that we can se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isible ligh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Picture 2" descr="C:\Users\Robin\AppData\Local\Microsoft\Windows\Temporary Internet Files\Content.IE5\UKPIYV1G\MCj04421220000[1]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ich part of the electromagnetic spectrum has the highest energy wave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3:06:01Z</dcterms:created>
  <dc:creator>Educational Technology Network</dc:creator>
  <dc:description>www.edtechnetwork.com</dc:description>
  <cp:keywords>Jeopardy Powerpoint Template;Educational Technology</cp:keywords>
  <dc:language>en-US</dc:language>
  <cp:lastModifiedBy>Julie Skaggs</cp:lastModifiedBy>
  <dcterms:modified xsi:type="dcterms:W3CDTF">2014-03-18T14:42:48Z</dcterms:modified>
  <cp:revision>30</cp:revision>
  <dc:subject>Jeopardy Template</dc:subject>
  <dc:title>POWERPOINT JEOPARDY</dc:title>
</cp:coreProperties>
</file>