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8F2-A058-49AC-B7D5-19A26FF6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6D57-CB84-47CB-A5DB-87905838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54E5-5B0B-4F11-827F-A5BA5EE4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933-102A-4DF8-B193-244EDEAF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BD50-C5F1-4D29-9E4A-62DC61EE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A35F-4106-4D28-92E6-CDF4427A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CB3-0CB4-4462-B281-8DB106BA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F578-5A06-4881-9E93-2F975D2A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152-1F95-4289-9301-0F53F4C5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39DB-5D8B-4C2A-83C3-82779CE8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8B3-74CA-4C3F-80EB-C92A34A3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A37-F0DD-49D9-B797-3CA54FDD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9bc2"/>
            </a:gs>
            <a:gs pos="50000">
              <a:srgbClr val="99ccff"/>
            </a:gs>
            <a:gs pos="100000">
              <a:srgbClr val="749b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806A-55B6-4B15-9211-864ED9672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ersuasive Strateg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7" descr="ReadWriteThink_rgb"/>
          <p:cNvPicPr/>
          <p:nvPr/>
        </p:nvPicPr>
        <p:blipFill>
          <a:blip r:embed="rId1"/>
          <a:stretch/>
        </p:blipFill>
        <p:spPr>
          <a:xfrm>
            <a:off x="304920" y="5943600"/>
            <a:ext cx="2647800" cy="6858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2975400" y="5867280"/>
            <a:ext cx="51872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right 2006 IRA/NCTE. All rights reserv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adWriteThink.org materials may be reproduced for educational purpo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ages ©2006 Microsoft Corporation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lai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j0242163"/>
          <p:cNvPicPr/>
          <p:nvPr/>
        </p:nvPicPr>
        <p:blipFill>
          <a:blip r:embed="rId1"/>
          <a:stretch/>
        </p:blipFill>
        <p:spPr>
          <a:xfrm>
            <a:off x="533520" y="2971800"/>
            <a:ext cx="3009960" cy="2503440"/>
          </a:xfrm>
          <a:prstGeom prst="rect">
            <a:avLst/>
          </a:prstGeom>
          <a:ln w="0">
            <a:noFill/>
          </a:ln>
        </p:spPr>
      </p:pic>
      <p:sp>
        <p:nvSpPr>
          <p:cNvPr id="46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191120" y="3200400"/>
            <a:ext cx="419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I am going to try to convince you that chocolate is a healthy sn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019240" y="1905120"/>
            <a:ext cx="50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te your argu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ig Na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PE01753_"/>
          <p:cNvPicPr/>
          <p:nvPr/>
        </p:nvPicPr>
        <p:blipFill>
          <a:blip r:embed="rId1"/>
          <a:stretch/>
        </p:blipFill>
        <p:spPr>
          <a:xfrm>
            <a:off x="5908680" y="3352680"/>
            <a:ext cx="2228760" cy="2895840"/>
          </a:xfrm>
          <a:prstGeom prst="rect">
            <a:avLst/>
          </a:prstGeom>
          <a:ln w="0">
            <a:noFill/>
          </a:ln>
        </p:spPr>
      </p:pic>
      <p:sp>
        <p:nvSpPr>
          <p:cNvPr id="51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066680" y="3886200"/>
            <a:ext cx="419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Former U.S. president Bill Clinton thinks that junk food should be taken out of vending mach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762120" y="18288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mportant people or experts can make your argument seem more convinc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og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j0340878"/>
          <p:cNvPicPr/>
          <p:nvPr/>
        </p:nvPicPr>
        <p:blipFill>
          <a:blip r:embed="rId1"/>
          <a:stretch/>
        </p:blipFill>
        <p:spPr>
          <a:xfrm>
            <a:off x="1295280" y="3352680"/>
            <a:ext cx="3124440" cy="3122640"/>
          </a:xfrm>
          <a:prstGeom prst="rect">
            <a:avLst/>
          </a:prstGeom>
          <a:ln w="0">
            <a:noFill/>
          </a:ln>
        </p:spPr>
      </p:pic>
      <p:sp>
        <p:nvSpPr>
          <p:cNvPr id="56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105520" y="3429000"/>
            <a:ext cx="3504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A Snickers bar has 280 calories and 30 grams of sugar. That’s not very healt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762120" y="18288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acts, numbers, and information can be very convinc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ath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j0401939"/>
          <p:cNvPicPr/>
          <p:nvPr/>
        </p:nvPicPr>
        <p:blipFill>
          <a:blip r:embed="rId1"/>
          <a:stretch/>
        </p:blipFill>
        <p:spPr>
          <a:xfrm>
            <a:off x="5384880" y="3124080"/>
            <a:ext cx="2284200" cy="3429000"/>
          </a:xfrm>
          <a:prstGeom prst="rect">
            <a:avLst/>
          </a:prstGeom>
          <a:ln w="0">
            <a:noFill/>
          </a:ln>
        </p:spPr>
      </p:pic>
      <p:sp>
        <p:nvSpPr>
          <p:cNvPr id="61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143000" y="3352680"/>
            <a:ext cx="350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Your donation might just get this puppy off the street and into a good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85800" y="18288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etting people to feel happy, sad, or angry can help your argu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th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pe03603_"/>
          <p:cNvPicPr/>
          <p:nvPr/>
        </p:nvPicPr>
        <p:blipFill>
          <a:blip r:embed="rId1"/>
          <a:stretch/>
        </p:blipFill>
        <p:spPr>
          <a:xfrm>
            <a:off x="1066680" y="3352680"/>
            <a:ext cx="2819520" cy="2814840"/>
          </a:xfrm>
          <a:prstGeom prst="rect">
            <a:avLst/>
          </a:prstGeom>
          <a:ln w="0">
            <a:noFill/>
          </a:ln>
        </p:spPr>
      </p:pic>
      <p:sp>
        <p:nvSpPr>
          <p:cNvPr id="66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724280" y="36576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Believe me! I’ve been there before. I’m just like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609480" y="182880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 people believe and trust in you, you’re more likely to persuade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Kai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j0127674"/>
          <p:cNvPicPr/>
          <p:nvPr/>
        </p:nvPicPr>
        <p:blipFill>
          <a:blip r:embed="rId1"/>
          <a:stretch/>
        </p:blipFill>
        <p:spPr>
          <a:xfrm>
            <a:off x="5486400" y="3124080"/>
            <a:ext cx="2246400" cy="312444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295280" y="38862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This is a one-time offer. You can’t get this price after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33520" y="182880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ry to convince your audience that this issue is so important they must act n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j0213321"/>
          <p:cNvPicPr/>
          <p:nvPr/>
        </p:nvPicPr>
        <p:blipFill>
          <a:blip r:embed="rId1"/>
          <a:stretch/>
        </p:blipFill>
        <p:spPr>
          <a:xfrm>
            <a:off x="1447920" y="3048120"/>
            <a:ext cx="2174760" cy="3429000"/>
          </a:xfrm>
          <a:prstGeom prst="rect">
            <a:avLst/>
          </a:prstGeom>
          <a:ln w="0">
            <a:noFill/>
          </a:ln>
        </p:spPr>
      </p:pic>
      <p:sp>
        <p:nvSpPr>
          <p:cNvPr id="76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343400" y="3276720"/>
            <a:ext cx="350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A recent study found that students who watch TV during the week don’t do as well in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838080" y="18288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sing reliable research can help your argument seem convinc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0:39:45Z</dcterms:created>
  <dc:creator>RWT author</dc:creator>
  <dc:description/>
  <dc:language>en-US</dc:language>
  <cp:lastModifiedBy>Julie Skaggs</cp:lastModifiedBy>
  <dcterms:modified xsi:type="dcterms:W3CDTF">2014-02-24T21:34:21Z</dcterms:modified>
  <cp:revision>10</cp:revision>
  <dc:subject>for RWT lesson "Can You Convince Me?"</dc:subject>
  <dc:title>Persuasive Strategies</dc:title>
</cp:coreProperties>
</file>