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499-5B07-4293-8BD9-2A4660FB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9AA-4FD2-4F21-B3F4-C6D67588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BC9-BADE-428E-8176-D21AF94B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629-E2DC-4ED1-B0A6-B814E630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6E7-0178-4101-93EC-03D68C9A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DA9-38C2-47B9-AEB6-B52ED9C9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08E-F65F-4B33-8A7E-8D4FF09A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201-E81C-482C-8A19-B05A6932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417-A336-4DD4-9D5E-A4140322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4DC-9852-411F-A832-CDEF3B6C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D86-55C5-4007-A635-E9462F4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4F6-0E8A-48F5-8C24-E2FDA5A7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9bc2"/>
            </a:gs>
            <a:gs pos="50000">
              <a:srgbClr val="99ccff"/>
            </a:gs>
            <a:gs pos="100000">
              <a:srgbClr val="749b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BA89-E797-48DF-B575-85C638396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suasive Strateg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ReadWriteThink_rgb"/>
          <p:cNvPicPr/>
          <p:nvPr/>
        </p:nvPicPr>
        <p:blipFill>
          <a:blip r:embed="rId1"/>
          <a:stretch/>
        </p:blipFill>
        <p:spPr>
          <a:xfrm>
            <a:off x="30492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2975400" y="5867280"/>
            <a:ext cx="5187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2006 IRA/NCTE. All rights reserv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WriteThink.org materials may be reproduced for educational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ages ©2006 Microsoft Corporation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j0242163"/>
          <p:cNvPicPr/>
          <p:nvPr/>
        </p:nvPicPr>
        <p:blipFill>
          <a:blip r:embed="rId1"/>
          <a:stretch/>
        </p:blipFill>
        <p:spPr>
          <a:xfrm>
            <a:off x="533520" y="2971800"/>
            <a:ext cx="3009960" cy="2503440"/>
          </a:xfrm>
          <a:prstGeom prst="rect">
            <a:avLst/>
          </a:prstGeom>
          <a:ln w="0">
            <a:noFill/>
          </a:ln>
        </p:spPr>
      </p:pic>
      <p:sp>
        <p:nvSpPr>
          <p:cNvPr id="4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191120" y="320040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I am going to try to convince you that chocolate is a healthy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019240" y="19051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 your argu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ig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PE01753_"/>
          <p:cNvPicPr/>
          <p:nvPr/>
        </p:nvPicPr>
        <p:blipFill>
          <a:blip r:embed="rId1"/>
          <a:stretch/>
        </p:blipFill>
        <p:spPr>
          <a:xfrm>
            <a:off x="5908680" y="3352680"/>
            <a:ext cx="222876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66680" y="38862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ormer U.S. president Bill Clinton thinks that junk food should be taken out of vending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62120" y="18288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portant people or experts can make your argument seem more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j0340878"/>
          <p:cNvPicPr/>
          <p:nvPr/>
        </p:nvPicPr>
        <p:blipFill>
          <a:blip r:embed="rId1"/>
          <a:stretch/>
        </p:blipFill>
        <p:spPr>
          <a:xfrm>
            <a:off x="1295280" y="3352680"/>
            <a:ext cx="3124440" cy="312264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105520" y="3429000"/>
            <a:ext cx="350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Snickers bar has 280 calories and 30 grams of sugar. That’s not very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21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cts, numbers, and information can be very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j0401939"/>
          <p:cNvPicPr/>
          <p:nvPr/>
        </p:nvPicPr>
        <p:blipFill>
          <a:blip r:embed="rId1"/>
          <a:stretch/>
        </p:blipFill>
        <p:spPr>
          <a:xfrm>
            <a:off x="5384880" y="3124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43000" y="3352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Your donation might just get this puppy off the street and into a good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5800" y="1828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ting people to feel happy, sad, or angry can help your argu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pe03603_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814840"/>
          </a:xfrm>
          <a:prstGeom prst="rect">
            <a:avLst/>
          </a:prstGeom>
          <a:ln w="0">
            <a:noFill/>
          </a:ln>
        </p:spPr>
      </p:pic>
      <p:sp>
        <p:nvSpPr>
          <p:cNvPr id="6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724280" y="36576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Believe me! I’ve been there before. I’m just lik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09480" y="18288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people believe and trust in you, you’re more likely to persuade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ai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j0127674"/>
          <p:cNvPicPr/>
          <p:nvPr/>
        </p:nvPicPr>
        <p:blipFill>
          <a:blip r:embed="rId1"/>
          <a:stretch/>
        </p:blipFill>
        <p:spPr>
          <a:xfrm>
            <a:off x="5486400" y="3124080"/>
            <a:ext cx="224640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295280" y="38862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is is a one-time offer. You can’t get this price after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1828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y to convince your audience that this issue is so important they must act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j0213321"/>
          <p:cNvPicPr/>
          <p:nvPr/>
        </p:nvPicPr>
        <p:blipFill>
          <a:blip r:embed="rId1"/>
          <a:stretch/>
        </p:blipFill>
        <p:spPr>
          <a:xfrm>
            <a:off x="1447920" y="3048120"/>
            <a:ext cx="21747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343400" y="327672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recent study found that students who watch TV during the week don’t do as well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838080" y="1828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reliable research can help your argument seem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0:39:45Z</dcterms:created>
  <dc:creator>RWT author</dc:creator>
  <dc:description/>
  <dc:language>en-US</dc:language>
  <cp:lastModifiedBy>Julie Skaggs</cp:lastModifiedBy>
  <dcterms:modified xsi:type="dcterms:W3CDTF">2014-02-24T21:34:21Z</dcterms:modified>
  <cp:revision>10</cp:revision>
  <dc:subject>for RWT lesson "Can You Convince Me?"</dc:subject>
  <dc:title>Persuasive Strategies</dc:title>
</cp:coreProperties>
</file>