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BB17-3AF7-41A1-AC20-6B81CF6B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C5FA-EB90-4E57-8786-291B768E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4B51-BF9C-4E47-884F-D685199E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0161-2DD1-47E7-8E40-308CF763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CBDE-A840-4F82-92DA-19C6C5A8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658A-19C4-4F48-A01E-E2C55D2F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2BD6-7FF9-4633-91BF-55827959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BF6F-DF9E-4009-BBF2-4635A6E0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7645-D8BA-4C1D-B746-BBBCD8FA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CDCB-4C45-4ED3-A65A-61FD5C53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FA57-23E6-45C9-B918-E826049C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27AF-7310-47E7-B4BF-E187442F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9bc2"/>
            </a:gs>
            <a:gs pos="50000">
              <a:srgbClr val="99ccff"/>
            </a:gs>
            <a:gs pos="100000">
              <a:srgbClr val="749b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C267-0ADB-4903-83B2-B23EDAD50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ersuasive Strateg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7" descr="ReadWriteThink_rgb"/>
          <p:cNvPicPr/>
          <p:nvPr/>
        </p:nvPicPr>
        <p:blipFill>
          <a:blip r:embed="rId1"/>
          <a:stretch/>
        </p:blipFill>
        <p:spPr>
          <a:xfrm>
            <a:off x="304920" y="5943600"/>
            <a:ext cx="2647800" cy="6858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2975400" y="5867280"/>
            <a:ext cx="51872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pyright 2006 IRA/NCTE. All rights reserv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adWriteThink.org materials may be reproduced for educational purpo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ages ©2006 Microsoft Corporation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lai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5" descr="j0242163"/>
          <p:cNvPicPr/>
          <p:nvPr/>
        </p:nvPicPr>
        <p:blipFill>
          <a:blip r:embed="rId1"/>
          <a:stretch/>
        </p:blipFill>
        <p:spPr>
          <a:xfrm>
            <a:off x="533520" y="2971800"/>
            <a:ext cx="3009960" cy="2503440"/>
          </a:xfrm>
          <a:prstGeom prst="rect">
            <a:avLst/>
          </a:prstGeom>
          <a:ln w="0">
            <a:noFill/>
          </a:ln>
        </p:spPr>
      </p:pic>
      <p:sp>
        <p:nvSpPr>
          <p:cNvPr id="46" name="Line 7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191120" y="3200400"/>
            <a:ext cx="419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I am going to try to convince you that chocolate is a healthy sn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2019240" y="1905120"/>
            <a:ext cx="50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ate your argu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ig Na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PE01753_"/>
          <p:cNvPicPr/>
          <p:nvPr/>
        </p:nvPicPr>
        <p:blipFill>
          <a:blip r:embed="rId1"/>
          <a:stretch/>
        </p:blipFill>
        <p:spPr>
          <a:xfrm>
            <a:off x="5908680" y="3352680"/>
            <a:ext cx="2228760" cy="2895840"/>
          </a:xfrm>
          <a:prstGeom prst="rect">
            <a:avLst/>
          </a:prstGeom>
          <a:ln w="0">
            <a:noFill/>
          </a:ln>
        </p:spPr>
      </p:pic>
      <p:sp>
        <p:nvSpPr>
          <p:cNvPr id="51" name="Line 7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066680" y="3886200"/>
            <a:ext cx="4191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Former U.S. president Bill Clinton thinks that junk food should be taken out of vending mach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762120" y="182880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mportant people or experts can make your argument seem more convinc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og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j0340878"/>
          <p:cNvPicPr/>
          <p:nvPr/>
        </p:nvPicPr>
        <p:blipFill>
          <a:blip r:embed="rId1"/>
          <a:stretch/>
        </p:blipFill>
        <p:spPr>
          <a:xfrm>
            <a:off x="1295280" y="3352680"/>
            <a:ext cx="3124440" cy="3122640"/>
          </a:xfrm>
          <a:prstGeom prst="rect">
            <a:avLst/>
          </a:prstGeom>
          <a:ln w="0">
            <a:noFill/>
          </a:ln>
        </p:spPr>
      </p:pic>
      <p:sp>
        <p:nvSpPr>
          <p:cNvPr id="56" name="Line 7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105520" y="3429000"/>
            <a:ext cx="3504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A Snickers bar has 280 calories and 30 grams of sugar. That’s not very healt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762120" y="18288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acts, numbers, and information can be very convinc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ath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j0401939"/>
          <p:cNvPicPr/>
          <p:nvPr/>
        </p:nvPicPr>
        <p:blipFill>
          <a:blip r:embed="rId1"/>
          <a:stretch/>
        </p:blipFill>
        <p:spPr>
          <a:xfrm>
            <a:off x="5384880" y="3124080"/>
            <a:ext cx="2284200" cy="3429000"/>
          </a:xfrm>
          <a:prstGeom prst="rect">
            <a:avLst/>
          </a:prstGeom>
          <a:ln w="0">
            <a:noFill/>
          </a:ln>
        </p:spPr>
      </p:pic>
      <p:sp>
        <p:nvSpPr>
          <p:cNvPr id="61" name="Line 7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143000" y="3352680"/>
            <a:ext cx="3505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Your donation might just get this puppy off the street and into a good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85800" y="18288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etting people to feel happy, sad, or angry can help your argu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th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pe03603_"/>
          <p:cNvPicPr/>
          <p:nvPr/>
        </p:nvPicPr>
        <p:blipFill>
          <a:blip r:embed="rId1"/>
          <a:stretch/>
        </p:blipFill>
        <p:spPr>
          <a:xfrm>
            <a:off x="1066680" y="3352680"/>
            <a:ext cx="2819520" cy="2814840"/>
          </a:xfrm>
          <a:prstGeom prst="rect">
            <a:avLst/>
          </a:prstGeom>
          <a:ln w="0">
            <a:noFill/>
          </a:ln>
        </p:spPr>
      </p:pic>
      <p:sp>
        <p:nvSpPr>
          <p:cNvPr id="66" name="Line 7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4724280" y="3657600"/>
            <a:ext cx="350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Believe me! I’ve been there before. I’m just like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609480" y="182880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f people believe and trust in you, you’re more likely to persuade th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Kair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j0127674"/>
          <p:cNvPicPr/>
          <p:nvPr/>
        </p:nvPicPr>
        <p:blipFill>
          <a:blip r:embed="rId1"/>
          <a:stretch/>
        </p:blipFill>
        <p:spPr>
          <a:xfrm>
            <a:off x="5486400" y="3124080"/>
            <a:ext cx="2246400" cy="3124440"/>
          </a:xfrm>
          <a:prstGeom prst="rect">
            <a:avLst/>
          </a:prstGeom>
          <a:ln w="0">
            <a:noFill/>
          </a:ln>
        </p:spPr>
      </p:pic>
      <p:sp>
        <p:nvSpPr>
          <p:cNvPr id="71" name="Line 7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295280" y="3886200"/>
            <a:ext cx="350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This is a one-time offer. You can’t get this price after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533520" y="182880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ry to convince your audience that this issue is so important they must act n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j0213321"/>
          <p:cNvPicPr/>
          <p:nvPr/>
        </p:nvPicPr>
        <p:blipFill>
          <a:blip r:embed="rId1"/>
          <a:stretch/>
        </p:blipFill>
        <p:spPr>
          <a:xfrm>
            <a:off x="1447920" y="3048120"/>
            <a:ext cx="2174760" cy="3429000"/>
          </a:xfrm>
          <a:prstGeom prst="rect">
            <a:avLst/>
          </a:prstGeom>
          <a:ln w="0">
            <a:noFill/>
          </a:ln>
        </p:spPr>
      </p:pic>
      <p:sp>
        <p:nvSpPr>
          <p:cNvPr id="76" name="Line 7"/>
          <p:cNvSpPr/>
          <p:nvPr/>
        </p:nvSpPr>
        <p:spPr>
          <a:xfrm>
            <a:off x="1371600" y="1676520"/>
            <a:ext cx="6248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4343400" y="3276720"/>
            <a:ext cx="3505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A recent study found that students who watch TV during the week don’t do as well in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838080" y="182880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sing reliable research can help your argument seem convinc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0:39:45Z</dcterms:created>
  <dc:creator>RWT author</dc:creator>
  <dc:description/>
  <dc:language>en-US</dc:language>
  <cp:lastModifiedBy>Julie Skaggs</cp:lastModifiedBy>
  <dcterms:modified xsi:type="dcterms:W3CDTF">2014-02-24T21:34:21Z</dcterms:modified>
  <cp:revision>10</cp:revision>
  <dc:subject>for RWT lesson "Can You Convince Me?"</dc:subject>
  <dc:title>Persuasive Strategies</dc:title>
</cp:coreProperties>
</file>