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5723-718C-4B47-9E0E-499991C8E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5E81-42AA-4720-9650-2E8A0EA98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8558-FDE9-4069-A06D-B0332EC0D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5CE3-CB29-46E3-B0F3-1B0048BFB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572C-6FA9-45E6-8F02-0365CAFA9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8BC0-7353-4564-8FBC-F329E81EF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2A4E-78CB-407A-9E5A-3BF1F88C1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E17D-564E-42E1-91BB-BD561FB8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09F1-7412-4AC1-8212-0D727DF58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1144-C1D5-4883-B815-A7B9BFF3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22ED-2FCB-45AE-9D8F-7043A9B6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1505-79C4-422B-94D8-B9B3BBBB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9bc2"/>
            </a:gs>
            <a:gs pos="50000">
              <a:srgbClr val="99ccff"/>
            </a:gs>
            <a:gs pos="100000">
              <a:srgbClr val="749b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FE9E5-36B2-4F3C-8A27-A3EC220423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7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Persuasive Strategi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7" descr="ReadWriteThink_rgb"/>
          <p:cNvPicPr/>
          <p:nvPr/>
        </p:nvPicPr>
        <p:blipFill>
          <a:blip r:embed="rId1"/>
          <a:stretch/>
        </p:blipFill>
        <p:spPr>
          <a:xfrm>
            <a:off x="304920" y="5943600"/>
            <a:ext cx="2647800" cy="6858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8"/>
          <p:cNvSpPr/>
          <p:nvPr/>
        </p:nvSpPr>
        <p:spPr>
          <a:xfrm>
            <a:off x="2975400" y="5867280"/>
            <a:ext cx="518724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pyright 2006 IRA/NCTE. All rights reserv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adWriteThink.org materials may be reproduced for educational purpo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mages ©2006 Microsoft Corporation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Clai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5" descr="j0242163"/>
          <p:cNvPicPr/>
          <p:nvPr/>
        </p:nvPicPr>
        <p:blipFill>
          <a:blip r:embed="rId1"/>
          <a:stretch/>
        </p:blipFill>
        <p:spPr>
          <a:xfrm>
            <a:off x="533520" y="2971800"/>
            <a:ext cx="3009960" cy="2503440"/>
          </a:xfrm>
          <a:prstGeom prst="rect">
            <a:avLst/>
          </a:prstGeom>
          <a:ln w="0">
            <a:noFill/>
          </a:ln>
        </p:spPr>
      </p:pic>
      <p:sp>
        <p:nvSpPr>
          <p:cNvPr id="46" name="Line 7"/>
          <p:cNvSpPr/>
          <p:nvPr/>
        </p:nvSpPr>
        <p:spPr>
          <a:xfrm>
            <a:off x="1371600" y="167652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4191120" y="3200400"/>
            <a:ext cx="4190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I am going to try to convince you that chocolate is a healthy sna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2019240" y="1905120"/>
            <a:ext cx="508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tate your argum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Big Nam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PE01753_"/>
          <p:cNvPicPr/>
          <p:nvPr/>
        </p:nvPicPr>
        <p:blipFill>
          <a:blip r:embed="rId1"/>
          <a:stretch/>
        </p:blipFill>
        <p:spPr>
          <a:xfrm>
            <a:off x="5908680" y="3352680"/>
            <a:ext cx="2228760" cy="2895840"/>
          </a:xfrm>
          <a:prstGeom prst="rect">
            <a:avLst/>
          </a:prstGeom>
          <a:ln w="0">
            <a:noFill/>
          </a:ln>
        </p:spPr>
      </p:pic>
      <p:sp>
        <p:nvSpPr>
          <p:cNvPr id="51" name="Line 7"/>
          <p:cNvSpPr/>
          <p:nvPr/>
        </p:nvSpPr>
        <p:spPr>
          <a:xfrm>
            <a:off x="1371600" y="167652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1066680" y="3886200"/>
            <a:ext cx="4191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Former U.S. president Bill Clinton thinks that junk food should be taken out of vending machi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762120" y="1828800"/>
            <a:ext cx="7619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mportant people or experts can make your argument seem more convinc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Log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" descr="j0340878"/>
          <p:cNvPicPr/>
          <p:nvPr/>
        </p:nvPicPr>
        <p:blipFill>
          <a:blip r:embed="rId1"/>
          <a:stretch/>
        </p:blipFill>
        <p:spPr>
          <a:xfrm>
            <a:off x="1295280" y="3352680"/>
            <a:ext cx="3124440" cy="3122640"/>
          </a:xfrm>
          <a:prstGeom prst="rect">
            <a:avLst/>
          </a:prstGeom>
          <a:ln w="0">
            <a:noFill/>
          </a:ln>
        </p:spPr>
      </p:pic>
      <p:sp>
        <p:nvSpPr>
          <p:cNvPr id="56" name="Line 7"/>
          <p:cNvSpPr/>
          <p:nvPr/>
        </p:nvSpPr>
        <p:spPr>
          <a:xfrm>
            <a:off x="1371600" y="167652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5105520" y="3429000"/>
            <a:ext cx="3504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A Snickers bar has 280 calories and 30 grams of sugar. That’s not very health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762120" y="182880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acts, numbers, and information can be very convinc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Path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j0401939"/>
          <p:cNvPicPr/>
          <p:nvPr/>
        </p:nvPicPr>
        <p:blipFill>
          <a:blip r:embed="rId1"/>
          <a:stretch/>
        </p:blipFill>
        <p:spPr>
          <a:xfrm>
            <a:off x="5384880" y="3124080"/>
            <a:ext cx="2284200" cy="3429000"/>
          </a:xfrm>
          <a:prstGeom prst="rect">
            <a:avLst/>
          </a:prstGeom>
          <a:ln w="0">
            <a:noFill/>
          </a:ln>
        </p:spPr>
      </p:pic>
      <p:sp>
        <p:nvSpPr>
          <p:cNvPr id="61" name="Line 7"/>
          <p:cNvSpPr/>
          <p:nvPr/>
        </p:nvSpPr>
        <p:spPr>
          <a:xfrm>
            <a:off x="1371600" y="167652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1143000" y="3352680"/>
            <a:ext cx="3505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Your donation might just get this puppy off the street and into a good h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685800" y="18288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Getting people to feel happy, sad, or angry can help your argum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Eth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5" descr="pe03603_"/>
          <p:cNvPicPr/>
          <p:nvPr/>
        </p:nvPicPr>
        <p:blipFill>
          <a:blip r:embed="rId1"/>
          <a:stretch/>
        </p:blipFill>
        <p:spPr>
          <a:xfrm>
            <a:off x="1066680" y="3352680"/>
            <a:ext cx="2819520" cy="2814840"/>
          </a:xfrm>
          <a:prstGeom prst="rect">
            <a:avLst/>
          </a:prstGeom>
          <a:ln w="0">
            <a:noFill/>
          </a:ln>
        </p:spPr>
      </p:pic>
      <p:sp>
        <p:nvSpPr>
          <p:cNvPr id="66" name="Line 7"/>
          <p:cNvSpPr/>
          <p:nvPr/>
        </p:nvSpPr>
        <p:spPr>
          <a:xfrm>
            <a:off x="1371600" y="167652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4724280" y="3657600"/>
            <a:ext cx="3505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Believe me! I’ve been there before. I’m just like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609480" y="1828800"/>
            <a:ext cx="792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f people believe and trust in you, you’re more likely to persuade the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Kair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j0127674"/>
          <p:cNvPicPr/>
          <p:nvPr/>
        </p:nvPicPr>
        <p:blipFill>
          <a:blip r:embed="rId1"/>
          <a:stretch/>
        </p:blipFill>
        <p:spPr>
          <a:xfrm>
            <a:off x="5486400" y="3124080"/>
            <a:ext cx="2246400" cy="3124440"/>
          </a:xfrm>
          <a:prstGeom prst="rect">
            <a:avLst/>
          </a:prstGeom>
          <a:ln w="0">
            <a:noFill/>
          </a:ln>
        </p:spPr>
      </p:pic>
      <p:sp>
        <p:nvSpPr>
          <p:cNvPr id="71" name="Line 7"/>
          <p:cNvSpPr/>
          <p:nvPr/>
        </p:nvSpPr>
        <p:spPr>
          <a:xfrm>
            <a:off x="1371600" y="167652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1295280" y="3886200"/>
            <a:ext cx="3505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This is a one-time offer. You can’t get this price after to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533520" y="1828800"/>
            <a:ext cx="8076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ry to convince your audience that this issue is so important they must act now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j0213321"/>
          <p:cNvPicPr/>
          <p:nvPr/>
        </p:nvPicPr>
        <p:blipFill>
          <a:blip r:embed="rId1"/>
          <a:stretch/>
        </p:blipFill>
        <p:spPr>
          <a:xfrm>
            <a:off x="1447920" y="3048120"/>
            <a:ext cx="2174760" cy="3429000"/>
          </a:xfrm>
          <a:prstGeom prst="rect">
            <a:avLst/>
          </a:prstGeom>
          <a:ln w="0">
            <a:noFill/>
          </a:ln>
        </p:spPr>
      </p:pic>
      <p:sp>
        <p:nvSpPr>
          <p:cNvPr id="76" name="Line 7"/>
          <p:cNvSpPr/>
          <p:nvPr/>
        </p:nvSpPr>
        <p:spPr>
          <a:xfrm>
            <a:off x="1371600" y="167652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4343400" y="3276720"/>
            <a:ext cx="3505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A recent study found that students who watch TV during the week don’t do as well in scho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838080" y="1828800"/>
            <a:ext cx="7467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Using reliable research can help your argument seem convinc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8T00:39:45Z</dcterms:created>
  <dc:creator>RWT author</dc:creator>
  <dc:description/>
  <dc:language>en-US</dc:language>
  <cp:lastModifiedBy>Julie Skaggs</cp:lastModifiedBy>
  <dcterms:modified xsi:type="dcterms:W3CDTF">2014-02-24T21:34:21Z</dcterms:modified>
  <cp:revision>10</cp:revision>
  <dc:subject>for RWT lesson "Can You Convince Me?"</dc:subject>
  <dc:title>Persuasive Strategies</dc:title>
</cp:coreProperties>
</file>